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2672-F98A-4F82-A99A-B4CB2559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4869-EC9C-4E1E-95D3-AC3DB508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5A2-69FC-4425-A012-1096B41E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5AD-142D-43D8-9652-989C40C7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A88-8DD0-4B14-9C2F-9228DC00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468-8F86-4145-AC42-B4A73992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E6D-B8CA-4EF0-8948-EF072C1E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174-A0B1-4804-964B-C25C6367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FA17-8E15-4A28-8FD2-ABA437E5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3B9-D7A1-419E-908B-08FD2CB8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F39-C5C1-44B7-925C-03EA7A90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3AC-B943-4D51-AD7D-D7519C6E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1DFC-6BD3-424E-9344-FCF45EB5D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2666880" y="990720"/>
            <a:ext cx="335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2819520" y="380880"/>
            <a:ext cx="3733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7 × 1 </a:t>
            </a:r>
            <a:r>
              <a:rPr b="1" lang="zh-TW" sz="65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509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752480" y="2590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2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52480" y="36576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3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800600" y="15238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6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876920" y="25909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7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828800" y="55627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5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676520" y="1600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1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175248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4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876920" y="358128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8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876920" y="45720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9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3352680" y="16002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3203640" y="256536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3294000" y="3684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3276720" y="458136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3352680" y="5562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6400800" y="4572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6400800" y="35812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6400800" y="2590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4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640080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86"/>
          <p:cNvSpPr/>
          <p:nvPr/>
        </p:nvSpPr>
        <p:spPr>
          <a:xfrm>
            <a:off x="5670720" y="-10008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b050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00b050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00b050"/>
                </a:solidFill>
                <a:latin typeface="標楷體"/>
                <a:ea typeface="標楷體"/>
              </a:rPr>
              <a:t>辛淑菁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6"/>
          <p:cNvSpPr/>
          <p:nvPr/>
        </p:nvSpPr>
        <p:spPr>
          <a:xfrm>
            <a:off x="2627280" y="401760"/>
            <a:ext cx="6408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7030a0"/>
                </a:solidFill>
                <a:latin typeface="標楷體"/>
                <a:ea typeface="標楷體"/>
              </a:rPr>
              <a:t>大家一起跟著唸！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51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4038480" y="28954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3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6"/>
          <p:cNvSpPr/>
          <p:nvPr/>
        </p:nvSpPr>
        <p:spPr>
          <a:xfrm>
            <a:off x="5867280" y="24922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37"/>
          <p:cNvSpPr/>
          <p:nvPr/>
        </p:nvSpPr>
        <p:spPr>
          <a:xfrm>
            <a:off x="4751280" y="386064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2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8"/>
          <p:cNvSpPr/>
          <p:nvPr/>
        </p:nvSpPr>
        <p:spPr>
          <a:xfrm>
            <a:off x="0" y="14986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1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9"/>
          <p:cNvSpPr/>
          <p:nvPr/>
        </p:nvSpPr>
        <p:spPr>
          <a:xfrm>
            <a:off x="1979640" y="508464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4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0"/>
          <p:cNvSpPr/>
          <p:nvPr/>
        </p:nvSpPr>
        <p:spPr>
          <a:xfrm>
            <a:off x="4343400" y="17524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8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1"/>
          <p:cNvSpPr/>
          <p:nvPr/>
        </p:nvSpPr>
        <p:spPr>
          <a:xfrm>
            <a:off x="228600" y="3733920"/>
            <a:ext cx="198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5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42"/>
          <p:cNvSpPr/>
          <p:nvPr/>
        </p:nvSpPr>
        <p:spPr>
          <a:xfrm>
            <a:off x="574560" y="445140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6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43"/>
          <p:cNvSpPr/>
          <p:nvPr/>
        </p:nvSpPr>
        <p:spPr>
          <a:xfrm>
            <a:off x="5292720" y="494172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9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44"/>
          <p:cNvSpPr/>
          <p:nvPr/>
        </p:nvSpPr>
        <p:spPr>
          <a:xfrm>
            <a:off x="685800" y="251460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×7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＝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45"/>
          <p:cNvSpPr/>
          <p:nvPr/>
        </p:nvSpPr>
        <p:spPr>
          <a:xfrm>
            <a:off x="5576760" y="3613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6"/>
          <p:cNvSpPr/>
          <p:nvPr/>
        </p:nvSpPr>
        <p:spPr>
          <a:xfrm>
            <a:off x="6804000" y="5629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7"/>
          <p:cNvSpPr/>
          <p:nvPr/>
        </p:nvSpPr>
        <p:spPr>
          <a:xfrm>
            <a:off x="175248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48"/>
          <p:cNvSpPr/>
          <p:nvPr/>
        </p:nvSpPr>
        <p:spPr>
          <a:xfrm>
            <a:off x="3487680" y="5845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9"/>
          <p:cNvSpPr/>
          <p:nvPr/>
        </p:nvSpPr>
        <p:spPr>
          <a:xfrm>
            <a:off x="2195640" y="328464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4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50"/>
          <p:cNvSpPr/>
          <p:nvPr/>
        </p:nvSpPr>
        <p:spPr>
          <a:xfrm>
            <a:off x="6300720" y="4621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51"/>
          <p:cNvSpPr/>
          <p:nvPr/>
        </p:nvSpPr>
        <p:spPr>
          <a:xfrm>
            <a:off x="2050920" y="51973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52"/>
          <p:cNvSpPr/>
          <p:nvPr/>
        </p:nvSpPr>
        <p:spPr>
          <a:xfrm>
            <a:off x="1547640" y="220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86"/>
          <p:cNvSpPr/>
          <p:nvPr/>
        </p:nvSpPr>
        <p:spPr>
          <a:xfrm>
            <a:off x="5742000" y="-15408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b050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00b050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00b050"/>
                </a:solidFill>
                <a:latin typeface="標楷體"/>
                <a:ea typeface="標楷體"/>
              </a:rPr>
              <a:t>辛淑菁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6"/>
          <p:cNvSpPr/>
          <p:nvPr/>
        </p:nvSpPr>
        <p:spPr>
          <a:xfrm>
            <a:off x="2627280" y="401760"/>
            <a:ext cx="6408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500" spc="-1" strike="noStrike">
                <a:solidFill>
                  <a:srgbClr val="7030a0"/>
                </a:solidFill>
                <a:latin typeface="標楷體"/>
                <a:ea typeface="標楷體"/>
              </a:rPr>
              <a:t>挑戰！加油！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7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8" dur="1" fill="hold"/>
                                  <p:tgtEl>
                                    <p:spTgt spid="1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3200400" y="5181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93432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-1371600" y="56386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419720" y="38862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0" y="47242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886200" y="4572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1905120" y="502920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0" y="38862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733920" y="57150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828800" y="42670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6248520" y="5181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693432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42900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048120" y="47242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5029200" y="42670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1676520" y="5638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3048120" y="38862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7467480" y="3809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2819520" y="5335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ff0000"/>
                </a:solidFill>
                <a:latin typeface="Times New Roman"/>
              </a:rPr>
              <a:t>的九九乘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3657600" y="1752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Times New Roman"/>
              </a:rPr>
              <a:t>加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8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4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2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3500"/>
                            </p:stCondLst>
                            <p:childTnLst>
                              <p:par>
                                <p:cTn id="834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15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2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5000"/>
                            </p:stCondLst>
                            <p:childTnLst>
                              <p:par>
                                <p:cTn id="844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430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6500"/>
                            </p:stCondLst>
                            <p:childTnLst>
                              <p:par>
                                <p:cTn id="854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550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60000"/>
                            </p:stCondLst>
                            <p:childTnLst>
                              <p:par>
                                <p:cTn id="864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69000"/>
                            </p:stCondLst>
                            <p:childTnLst>
                              <p:par>
                                <p:cTn id="87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73500"/>
                            </p:stCondLst>
                            <p:childTnLst>
                              <p:par>
                                <p:cTn id="874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82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87000"/>
                            </p:stCondLst>
                            <p:childTnLst>
                              <p:par>
                                <p:cTn id="884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96000"/>
                            </p:stCondLst>
                            <p:childTnLst>
                              <p:par>
                                <p:cTn id="89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500"/>
                            </p:stCondLst>
                            <p:childTnLst>
                              <p:par>
                                <p:cTn id="894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0950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05" dur="1" fill="hold"/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371600" y="342900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590920" y="60948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算算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95280" y="1981080"/>
            <a:ext cx="3276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295280" y="5181480"/>
            <a:ext cx="31244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486400" y="2286000"/>
            <a:ext cx="3657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952880" y="3962520"/>
            <a:ext cx="3657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WINDOWS\Desktop\資源班\照片\資照各屆\90學年度(第八屆)\(90上)師生照片\90--5-3陳嘉芬--陳秋虹--90.11.8.jpg"/>
          <p:cNvPicPr/>
          <p:nvPr/>
        </p:nvPicPr>
        <p:blipFill>
          <a:blip r:embed="rId1"/>
          <a:stretch/>
        </p:blipFill>
        <p:spPr>
          <a:xfrm>
            <a:off x="1828800" y="2362320"/>
            <a:ext cx="5429160" cy="3752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3"/>
          <p:cNvSpPr/>
          <p:nvPr/>
        </p:nvSpPr>
        <p:spPr>
          <a:xfrm>
            <a:off x="5486400" y="533520"/>
            <a:ext cx="2895480" cy="2514600"/>
          </a:xfrm>
          <a:prstGeom prst="cloudCallout">
            <a:avLst>
              <a:gd name="adj1" fmla="val -68694"/>
              <a:gd name="adj2" fmla="val 762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恭喜你過關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7 × 2 </a:t>
            </a:r>
            <a:r>
              <a:rPr b="1" lang="zh-TW" sz="6500" spc="-1" strike="noStrike">
                <a:solidFill>
                  <a:srgbClr val="ff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2305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547640" y="2754360"/>
          <a:ext cx="1368720" cy="3627360"/>
        </p:xfrm>
        <a:graphic>
          <a:graphicData uri="http://schemas.openxmlformats.org/drawingml/2006/table">
            <a:tbl>
              <a:tblPr/>
              <a:tblGrid>
                <a:gridCol w="684360"/>
                <a:gridCol w="68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7 × 3 </a:t>
            </a:r>
            <a:r>
              <a:rPr b="1" lang="zh-TW" sz="65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547640" y="2754360"/>
          <a:ext cx="2087640" cy="3627360"/>
        </p:xfrm>
        <a:graphic>
          <a:graphicData uri="http://schemas.openxmlformats.org/drawingml/2006/table">
            <a:tbl>
              <a:tblPr/>
              <a:tblGrid>
                <a:gridCol w="695520"/>
                <a:gridCol w="696960"/>
                <a:gridCol w="695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7 × 4 </a:t>
            </a:r>
            <a:r>
              <a:rPr b="1" lang="zh-TW" sz="6500" spc="-1" strike="noStrike">
                <a:solidFill>
                  <a:srgbClr val="ff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63528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547640" y="2754360"/>
          <a:ext cx="2737080" cy="3627360"/>
        </p:xfrm>
        <a:graphic>
          <a:graphicData uri="http://schemas.openxmlformats.org/drawingml/2006/table">
            <a:tbl>
              <a:tblPr/>
              <a:tblGrid>
                <a:gridCol w="684360"/>
                <a:gridCol w="684360"/>
                <a:gridCol w="684000"/>
                <a:gridCol w="68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7 × 5 </a:t>
            </a:r>
            <a:r>
              <a:rPr b="1" lang="zh-TW" sz="65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63528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317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547640" y="2754360"/>
          <a:ext cx="3456000" cy="3627360"/>
        </p:xfrm>
        <a:graphic>
          <a:graphicData uri="http://schemas.openxmlformats.org/drawingml/2006/table">
            <a:tbl>
              <a:tblPr/>
              <a:tblGrid>
                <a:gridCol w="690840"/>
                <a:gridCol w="691920"/>
                <a:gridCol w="690840"/>
                <a:gridCol w="691920"/>
                <a:gridCol w="690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7 × 6 </a:t>
            </a:r>
            <a:r>
              <a:rPr b="1" lang="zh-TW" sz="6500" spc="-1" strike="noStrike">
                <a:solidFill>
                  <a:srgbClr val="ff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63528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317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965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547640" y="2754360"/>
          <a:ext cx="4104000" cy="3627360"/>
        </p:xfrm>
        <a:graphic>
          <a:graphicData uri="http://schemas.openxmlformats.org/drawingml/2006/table">
            <a:tbl>
              <a:tblPr/>
              <a:tblGrid>
                <a:gridCol w="684360"/>
                <a:gridCol w="684360"/>
                <a:gridCol w="684000"/>
                <a:gridCol w="684360"/>
                <a:gridCol w="682560"/>
                <a:gridCol w="68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7 × 7 </a:t>
            </a:r>
            <a:r>
              <a:rPr b="1" lang="zh-TW" sz="65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63528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317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965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61492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547640" y="2754360"/>
          <a:ext cx="4753080" cy="3627360"/>
        </p:xfrm>
        <a:graphic>
          <a:graphicData uri="http://schemas.openxmlformats.org/drawingml/2006/table">
            <a:tbl>
              <a:tblPr/>
              <a:tblGrid>
                <a:gridCol w="679680"/>
                <a:gridCol w="677880"/>
                <a:gridCol w="679320"/>
                <a:gridCol w="679680"/>
                <a:gridCol w="677520"/>
                <a:gridCol w="67968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7 × 8 </a:t>
            </a:r>
            <a:r>
              <a:rPr b="1" lang="zh-TW" sz="6500" spc="-1" strike="noStrike">
                <a:solidFill>
                  <a:srgbClr val="ff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63528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317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965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1492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30072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547640" y="2754360"/>
          <a:ext cx="5400720" cy="3627360"/>
        </p:xfrm>
        <a:graphic>
          <a:graphicData uri="http://schemas.openxmlformats.org/drawingml/2006/table">
            <a:tbl>
              <a:tblPr/>
              <a:tblGrid>
                <a:gridCol w="675000"/>
                <a:gridCol w="674640"/>
                <a:gridCol w="676080"/>
                <a:gridCol w="674640"/>
                <a:gridCol w="675000"/>
                <a:gridCol w="674640"/>
                <a:gridCol w="676080"/>
                <a:gridCol w="674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611280" y="1052640"/>
            <a:ext cx="5208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7 × 9 </a:t>
            </a:r>
            <a:r>
              <a:rPr b="1" lang="zh-TW" sz="65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5241960" y="1052640"/>
            <a:ext cx="1490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86"/>
          <p:cNvSpPr/>
          <p:nvPr/>
        </p:nvSpPr>
        <p:spPr>
          <a:xfrm>
            <a:off x="5489640" y="0"/>
            <a:ext cx="3654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7</a:t>
            </a:r>
            <a:r>
              <a:rPr b="1" lang="zh-TW" sz="25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 </a:t>
            </a:r>
            <a:r>
              <a:rPr b="0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23880" y="2743200"/>
          <a:ext cx="6019920" cy="3627360"/>
        </p:xfrm>
        <a:graphic>
          <a:graphicData uri="http://schemas.openxmlformats.org/drawingml/2006/table">
            <a:tbl>
              <a:tblPr/>
              <a:tblGrid>
                <a:gridCol w="685800"/>
                <a:gridCol w="668520"/>
                <a:gridCol w="677880"/>
                <a:gridCol w="677880"/>
                <a:gridCol w="676080"/>
                <a:gridCol w="677880"/>
                <a:gridCol w="677880"/>
                <a:gridCol w="676440"/>
                <a:gridCol w="601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523880" y="274320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1956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91636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63528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317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965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61492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30072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981840" y="2754360"/>
          <a:ext cx="685800" cy="36273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547640" y="2754360"/>
          <a:ext cx="6120000" cy="3627360"/>
        </p:xfrm>
        <a:graphic>
          <a:graphicData uri="http://schemas.openxmlformats.org/drawingml/2006/table">
            <a:tbl>
              <a:tblPr/>
              <a:tblGrid>
                <a:gridCol w="679680"/>
                <a:gridCol w="681120"/>
                <a:gridCol w="679320"/>
                <a:gridCol w="679320"/>
                <a:gridCol w="681120"/>
                <a:gridCol w="679320"/>
                <a:gridCol w="681120"/>
                <a:gridCol w="67968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1:45:13Z</dcterms:created>
  <dc:creator>shin</dc:creator>
  <dc:description/>
  <dc:language>en-US</dc:language>
  <cp:lastModifiedBy>辛淑菁</cp:lastModifiedBy>
  <dcterms:modified xsi:type="dcterms:W3CDTF">2012-04-30T12:37:46Z</dcterms:modified>
  <cp:revision>77</cp:revision>
  <dc:subject/>
  <dc:title>PowerPoint 簡報</dc:title>
</cp:coreProperties>
</file>