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8B0-B955-4EA2-A8FF-72827D8A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78D-E54A-4FDC-A452-1AD5BDDC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E33-143D-47BB-ABCB-EC984574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F44-A913-4625-8CEB-742F38BD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9F7-D104-4893-81B6-49289382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CF0-90A5-44F4-9B66-48C16B43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FAB-4187-4758-88E5-C98896C6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162-639C-41EF-A035-0ED87672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B9F-5CCC-4603-B16A-93935196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DC7-A56C-4817-AD03-A6135054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844-EC5B-44ED-BD73-50132EF2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FF0-BF8D-4583-970F-9335C455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83FB-946E-49E0-AB33-058C61BA6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3880" y="3808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辛淑菁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75248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743200" y="5335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標楷體"/>
                <a:ea typeface="標楷體"/>
              </a:rPr>
              <a:t>4</a:t>
            </a:r>
            <a:r>
              <a:rPr b="1" lang="zh-TW" sz="4800" spc="-1" strike="noStrike">
                <a:solidFill>
                  <a:srgbClr val="006600"/>
                </a:solidFill>
                <a:latin typeface="標楷體"/>
                <a:ea typeface="標楷體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524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800600" y="1523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876920" y="25909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828800" y="5562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76520" y="1600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75248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8769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876920" y="4572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352680" y="1523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352680" y="1600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3429000" y="26668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429000" y="3657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3276720" y="4648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335268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400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6400800" y="3581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6400800" y="2590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40080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00000" y="380880"/>
            <a:ext cx="755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有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題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038480" y="2895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7391520" y="17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7"/>
          <p:cNvSpPr/>
          <p:nvPr/>
        </p:nvSpPr>
        <p:spPr>
          <a:xfrm>
            <a:off x="3657600" y="4114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8"/>
          <p:cNvSpPr/>
          <p:nvPr/>
        </p:nvSpPr>
        <p:spPr>
          <a:xfrm>
            <a:off x="0" y="15238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9"/>
          <p:cNvSpPr/>
          <p:nvPr/>
        </p:nvSpPr>
        <p:spPr>
          <a:xfrm>
            <a:off x="0" y="5486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0"/>
          <p:cNvSpPr/>
          <p:nvPr/>
        </p:nvSpPr>
        <p:spPr>
          <a:xfrm>
            <a:off x="4343400" y="1752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1"/>
          <p:cNvSpPr/>
          <p:nvPr/>
        </p:nvSpPr>
        <p:spPr>
          <a:xfrm>
            <a:off x="228600" y="373392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2"/>
          <p:cNvSpPr/>
          <p:nvPr/>
        </p:nvSpPr>
        <p:spPr>
          <a:xfrm>
            <a:off x="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3"/>
          <p:cNvSpPr/>
          <p:nvPr/>
        </p:nvSpPr>
        <p:spPr>
          <a:xfrm>
            <a:off x="4952880" y="5257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4"/>
          <p:cNvSpPr/>
          <p:nvPr/>
        </p:nvSpPr>
        <p:spPr>
          <a:xfrm>
            <a:off x="685800" y="2514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5"/>
          <p:cNvSpPr/>
          <p:nvPr/>
        </p:nvSpPr>
        <p:spPr>
          <a:xfrm>
            <a:off x="7086600" y="2895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6"/>
          <p:cNvSpPr/>
          <p:nvPr/>
        </p:nvSpPr>
        <p:spPr>
          <a:xfrm>
            <a:off x="8077320" y="5257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7"/>
          <p:cNvSpPr/>
          <p:nvPr/>
        </p:nvSpPr>
        <p:spPr>
          <a:xfrm>
            <a:off x="175248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8"/>
          <p:cNvSpPr/>
          <p:nvPr/>
        </p:nvSpPr>
        <p:spPr>
          <a:xfrm>
            <a:off x="304812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9"/>
          <p:cNvSpPr/>
          <p:nvPr/>
        </p:nvSpPr>
        <p:spPr>
          <a:xfrm>
            <a:off x="3733920" y="2514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0"/>
          <p:cNvSpPr/>
          <p:nvPr/>
        </p:nvSpPr>
        <p:spPr>
          <a:xfrm>
            <a:off x="6705720" y="4114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1"/>
          <p:cNvSpPr/>
          <p:nvPr/>
        </p:nvSpPr>
        <p:spPr>
          <a:xfrm>
            <a:off x="31240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2"/>
          <p:cNvSpPr/>
          <p:nvPr/>
        </p:nvSpPr>
        <p:spPr>
          <a:xfrm>
            <a:off x="312408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8" dur="1" fill="hold"/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826920" y="380880"/>
            <a:ext cx="5639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50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200400" y="5181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0481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-1371600" y="5638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419720" y="38862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-228600" y="5715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0" y="530208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80880" y="5029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733920" y="5715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1828800" y="4267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624852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69343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523880" y="60339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048120" y="4724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5029200" y="42670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182880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3429000" y="51055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7467480" y="3809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ou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950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7500"/>
                            </p:stCondLst>
                            <p:childTnLst>
                              <p:par>
                                <p:cTn id="76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6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41000"/>
                            </p:stCondLst>
                            <p:childTnLst>
                              <p:par>
                                <p:cTn id="77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0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4500"/>
                            </p:stCondLst>
                            <p:childTnLst>
                              <p:par>
                                <p:cTn id="78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635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000"/>
                            </p:stCondLst>
                            <p:childTnLst>
                              <p:par>
                                <p:cTn id="79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77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81500"/>
                            </p:stCondLst>
                            <p:childTnLst>
                              <p:par>
                                <p:cTn id="80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0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95000"/>
                            </p:stCondLst>
                            <p:childTnLst>
                              <p:par>
                                <p:cTn id="81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40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8500"/>
                            </p:stCondLst>
                            <p:childTnLst>
                              <p:par>
                                <p:cTn id="82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175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8" dur="1" fill="hold"/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819520" y="611280"/>
            <a:ext cx="31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963880" y="75564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952880" y="1828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324240" y="692280"/>
            <a:ext cx="31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36960" y="692280"/>
            <a:ext cx="31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892600" y="75564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8769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843280" y="755640"/>
            <a:ext cx="33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8769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5627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059280" y="61128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8769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5627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485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987640" y="82872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的九九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952880" y="18288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3505320"/>
          <a:ext cx="6096240" cy="232092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5238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2096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8954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5812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26708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8769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5627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2485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934320" y="3505320"/>
          <a:ext cx="685800" cy="230508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1:45:13Z</dcterms:created>
  <dc:creator>shin</dc:creator>
  <dc:description/>
  <dc:language>en-US</dc:language>
  <cp:lastModifiedBy>辛淑菁</cp:lastModifiedBy>
  <dcterms:modified xsi:type="dcterms:W3CDTF">2012-04-30T14:59:30Z</dcterms:modified>
  <cp:revision>26</cp:revision>
  <dc:subject/>
  <dc:title>PowerPoint 簡報</dc:title>
</cp:coreProperties>
</file>