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projctor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F63-645B-4961-B25D-65F07883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CC1-A603-4D2F-8CE1-07309293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C5DA-78C2-49CC-A6DA-AE046553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073-E5B0-4B0B-B96E-04F36B7A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311F-FD29-4EF2-86F5-53FAE6C0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71C3-160D-4283-A53C-95435443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DCF8-AC69-4107-8F20-9F999456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F074-5E8B-442C-8E36-D43308DE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EFE6-6B78-454C-8ABA-D7403F7A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AA84-39FD-43DE-B6F0-9859B956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948F-AC5C-44AB-8996-16B437B9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40F6-A5A2-4721-8F5F-B337FEAE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FD41-67FD-4A9F-8BD4-1E8CD835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812A-DA81-4E9F-A51F-B523DCD4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A1AD-221C-4CC4-B1FC-20F456B0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F18B-A6CD-4DE9-9470-48EE70B2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289F-DB24-4173-9C00-492E835E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9C81-170A-41EF-96EF-B11A4A50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090C-FDEB-4CEF-8DF3-67D596F0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F9DE7-4390-457E-BDD0-67696B7C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F173-EC1E-427A-AA32-FCCAF2A1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9C79-765D-4BD5-92E3-E942B685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112-AA1D-4AE3-AC4D-A816BF80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F70A-FD7F-44D1-9B96-7EB7423B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C126-EC52-4C80-82BF-F28D7EA9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8E89-2747-42D3-85B7-BB750738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3197-CF2F-4D9E-B971-3785FE54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62F96-8141-484F-9786-F5A1525C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7A23-F5F7-48D6-854D-AAC7AFBA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7A7D-8D06-458C-BA42-71AF04B1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F0545-0DCF-42F1-8D16-EDAEFF9F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0F92-0156-4294-8C15-DB424D2B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A803-5113-46EC-89C5-53EE7E9F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B93-EC4A-488C-93F1-DF2E18DB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E7C3-7834-4759-B647-BC715FA5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1A84-4D22-401C-A00B-2F9FB68F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D3449-CE67-4360-9DC0-70DAEE7C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1A90A-4108-45A0-80B9-BA465D0C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C121-523A-46ED-8E73-1D5D87AD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3C9F2-0788-4C2C-8617-693934F9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8C80F-5747-409D-8CA0-D3DCBFA5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89459-7040-4363-B5DF-0AC5D19A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14DEE-576C-404C-AF14-D5F8E4F6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38094-3D0A-4F11-A3B2-1A6ED0D4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442-B789-4413-925D-05F75EC5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D8F2A-E203-4BC1-91E6-F493576C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F66AB-0D6A-4480-B4BB-062A17F1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6E2DD-CA29-4168-A51F-C09E34B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CF06C-46D3-4478-B745-C25D4DCF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8D4CD-3DF2-4BE1-86BF-43E32151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343C-6202-455E-8A11-A9BA8BC8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9EB45-C9F4-4774-BD02-ED13CB4E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BD00F-4FB8-4D82-815D-66B18A73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C7F3-7E33-4FDE-B910-0B37C9DB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F54DF-DA0E-45D4-8E34-030A3431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44F-C9ED-45A8-B745-82526262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2DA84-EFEB-4D07-9BF0-41268550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8E105-405C-4E8E-AE6F-1AB75475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905FF-88A5-41EE-AC6A-D807DBB1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2377E-12D9-4328-9D30-4A6F98E3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8F5D5-A167-4061-9599-74F632A8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8DBC4-311D-418A-BA31-E628F4EA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BB221-A598-4EC0-8A53-797A03D3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211D6-270B-40AB-A83A-90F70E46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A07C7-4009-424C-97C2-8F148978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59BC9-59B1-4706-899A-3222FD98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1A4-80C4-408B-BDB1-82188DFF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0AB03-01EB-43AB-97D7-74FB8DE4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6E44E-6EF5-4D0F-A0E9-C6435B73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42B83-3FA7-4932-9EAB-17343A15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5CC44-F09C-4849-A065-6ADE34DF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35174-08A4-4D86-B600-D4322F6A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5EB56-ED5C-4A2B-8B58-EB8B06FB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44961-7FDC-4AA3-B869-93CCC7BC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9987C-3D6B-48CF-BCA8-07709637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74EFD-1639-4EFF-B8EC-7C77680A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2B2D6-4A15-4E46-98B6-F2A10819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B6F-18D9-476E-B42E-32399F41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6005B-F8AD-46B3-9705-2CAA8B80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F5FD4-5C77-4BB4-995D-1A2345D0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25499-BCE6-4625-BBBD-C7050EF1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95C6A-2C94-43A1-8921-0A37AC08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2D338-CD21-43A4-9F4D-C34FAC4E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6FC-B0BB-40E3-A58B-EADDA68A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" name="矩形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7" name="矩形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1B46-66C4-4086-B354-39AD8C659E2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" name="矩形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" name="矩形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5" name="矩形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6" name="矩形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7" name="矩形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8" name="矩形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EA81-F6BC-4023-8241-37385B8F612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8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09" name="手繪多邊形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0" name="手繪多邊形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1" name="手繪多邊形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2" name="手繪多邊形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3" name="手繪多邊形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4" name="手繪多邊形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5" name="手繪多邊形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6" name="手繪多邊形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7" name="手繪多邊形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8" name="手繪多邊形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19" name="手繪多邊形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0" name="手繪多邊形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1" name="手繪多邊形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2" name="手繪多邊形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3" name="手繪多邊形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4" name="矩形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5" name="矩形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6" name="矩形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7" name="矩形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8" name="矩形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29" name="矩形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F600-D1B7-4F7B-B700-10D1EC5D7B9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1FA1-FFDA-4FB4-9E62-9BC1776C842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3" name="矩形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4" name="矩形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5" name="矩形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6" name="矩形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7" name="矩形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8" name="矩形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19" name="矩形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0" name="矩形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1" name="矩形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B86C-774A-4291-AD95-3771127D97F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2A3B-3440-4A0A-9042-3837BCFE39F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5" name="矩形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6" name="矩形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7" name="矩形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8" name="矩形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09" name="矩形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0" name="矩形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1" name="矩形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2" name="矩形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3" name="矩形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14" name="直線接點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grpSp>
        <p:nvGrpSpPr>
          <p:cNvPr id="315" name="群組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直線接點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17" name="直線接點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18" name="直線接點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</p:grpSp>
      <p:grpSp>
        <p:nvGrpSpPr>
          <p:cNvPr id="319" name="群組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直線接點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21" name="直線接點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22" name="直線接點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</p:grpSp>
      <p:grpSp>
        <p:nvGrpSpPr>
          <p:cNvPr id="323" name="群組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直線接點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25" name="直線接點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  <p:sp>
          <p:nvSpPr>
            <p:cNvPr id="326" name="直線接點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標楷體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FD9E-DB78-42DA-AFCC-07650C1902A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027"/>
          <p:cNvSpPr/>
          <p:nvPr/>
        </p:nvSpPr>
        <p:spPr>
          <a:xfrm>
            <a:off x="1619280" y="1413000"/>
            <a:ext cx="6046920" cy="31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ea157a"/>
                </a:solidFill>
                <a:latin typeface="標楷體"/>
              </a:rPr>
              <a:t>九九乘法</a:t>
            </a:r>
            <a:endParaRPr b="0" lang="en-US" sz="96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ea157a"/>
                </a:solidFill>
                <a:latin typeface="標楷體"/>
              </a:rPr>
              <a:t>我最棒！</a:t>
            </a:r>
            <a:r>
              <a:rPr b="0" lang="zh-TW" sz="1300" spc="-1" strike="noStrike">
                <a:solidFill>
                  <a:srgbClr val="ea157a"/>
                </a:solidFill>
                <a:latin typeface="標楷體"/>
              </a:rPr>
              <a:t>辛淑菁</a:t>
            </a:r>
            <a:endParaRPr b="0" lang="en-US" sz="13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457200" y="1523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457200" y="37339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3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457200" y="1523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457200" y="373392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3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1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027"/>
          <p:cNvSpPr/>
          <p:nvPr/>
        </p:nvSpPr>
        <p:spPr>
          <a:xfrm>
            <a:off x="0" y="836640"/>
            <a:ext cx="94680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ffff00"/>
                </a:solidFill>
                <a:latin typeface="標楷體"/>
              </a:rPr>
              <a:t>大家一起跟著唸！</a:t>
            </a:r>
            <a:endParaRPr b="0" lang="en-US" sz="90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2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到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9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的九九乘法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(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版本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2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：共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3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個投影片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)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3419640" y="272880"/>
            <a:ext cx="2666880" cy="83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1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2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3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4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5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6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7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8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2  × 9 </a:t>
            </a:r>
            <a:r>
              <a:rPr b="0" lang="zh-TW" sz="3000" spc="-1" strike="noStrike">
                <a:solidFill>
                  <a:srgbClr val="ea157a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ea157a"/>
                </a:solidFill>
                <a:latin typeface="標楷體"/>
              </a:rPr>
              <a:t>1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6442200" y="228600"/>
            <a:ext cx="2666880" cy="88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1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2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3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9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4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5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1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6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1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7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21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8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2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3  × 9 </a:t>
            </a:r>
            <a:r>
              <a:rPr b="0" lang="zh-TW" sz="3000" spc="-1" strike="noStrike">
                <a:solidFill>
                  <a:srgbClr val="ff33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3300"/>
                </a:solidFill>
                <a:latin typeface="標楷體"/>
              </a:rPr>
              <a:t>27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468360" y="417600"/>
            <a:ext cx="266688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1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2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3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4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5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6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7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7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8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  × 9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9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 advTm="2000">
    <p:random/>
    <p:sndAc>
      <p:stSnd>
        <p:snd r:embed="rId1" name="projctor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3273480" y="417600"/>
            <a:ext cx="266688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1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2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3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1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4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2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5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2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6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3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7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3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8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4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5  × 9 </a:t>
            </a:r>
            <a:r>
              <a:rPr b="0" lang="zh-TW" sz="3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ff"/>
                </a:solidFill>
                <a:latin typeface="標楷體"/>
              </a:rPr>
              <a:t>4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6008760" y="417600"/>
            <a:ext cx="266688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1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2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3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1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4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2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5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3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6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3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7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4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8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4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6  × 9 </a:t>
            </a:r>
            <a:r>
              <a:rPr b="0" lang="zh-TW" sz="3000" spc="-1" strike="noStrike">
                <a:solidFill>
                  <a:srgbClr val="00b0f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b0f0"/>
                </a:solidFill>
                <a:latin typeface="標楷體"/>
              </a:rPr>
              <a:t>5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20760" y="404640"/>
            <a:ext cx="2666880" cy="930708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1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2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3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1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4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1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5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2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6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2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7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2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8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3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4  × 9 </a:t>
            </a:r>
            <a:r>
              <a:rPr b="0" lang="zh-TW" sz="3000" spc="-1" strike="noStrike">
                <a:solidFill>
                  <a:srgbClr val="ffff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ff00"/>
                </a:solidFill>
                <a:latin typeface="標楷體"/>
              </a:rPr>
              <a:t>3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 advTm="2000">
    <p:random/>
    <p:sndAc>
      <p:stSnd>
        <p:snd r:embed="rId1" name="projctor.wav"/>
      </p:stSnd>
    </p:sndAc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3057480" y="404640"/>
            <a:ext cx="266688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1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2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1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3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2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4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3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5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40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6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4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7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5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8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6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8  × 9 </a:t>
            </a:r>
            <a:r>
              <a:rPr b="0" lang="zh-TW" sz="3000" spc="-1" strike="noStrike">
                <a:solidFill>
                  <a:srgbClr val="ffc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c000"/>
                </a:solidFill>
                <a:latin typeface="標楷體"/>
              </a:rPr>
              <a:t>7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5937120" y="417600"/>
            <a:ext cx="266724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1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2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1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3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27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4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3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5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4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6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5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7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63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8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7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9  × 9 </a:t>
            </a:r>
            <a:r>
              <a:rPr b="0" lang="zh-TW" sz="3000" spc="-1" strike="noStrike">
                <a:solidFill>
                  <a:srgbClr val="ff000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ff0000"/>
                </a:solidFill>
                <a:latin typeface="標楷體"/>
              </a:rPr>
              <a:t>81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49120" y="404640"/>
            <a:ext cx="2667240" cy="9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1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2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14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3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21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4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28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5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35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6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42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7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49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8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56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7  × 9 </a:t>
            </a:r>
            <a:r>
              <a:rPr b="0" lang="zh-TW" sz="3000" spc="-1" strike="noStrike">
                <a:solidFill>
                  <a:srgbClr val="0070c0"/>
                </a:solidFill>
                <a:latin typeface="標楷體"/>
              </a:rPr>
              <a:t>＝ </a:t>
            </a:r>
            <a:r>
              <a:rPr b="0" lang="en-US" sz="3000" spc="-1" strike="noStrike">
                <a:solidFill>
                  <a:srgbClr val="0070c0"/>
                </a:solidFill>
                <a:latin typeface="標楷體"/>
              </a:rPr>
              <a:t>63</a:t>
            </a:r>
            <a:endParaRPr b="0" lang="en-US" sz="3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 advTm="2000">
    <p:random/>
    <p:sndAc>
      <p:stSnd>
        <p:snd r:embed="rId1" name="projctor.wav"/>
      </p:stSnd>
    </p:sndAc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027"/>
          <p:cNvSpPr/>
          <p:nvPr/>
        </p:nvSpPr>
        <p:spPr>
          <a:xfrm>
            <a:off x="0" y="836640"/>
            <a:ext cx="94680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ea157a"/>
                </a:solidFill>
                <a:latin typeface="標楷體"/>
              </a:rPr>
              <a:t>看誰最快！</a:t>
            </a:r>
            <a:endParaRPr b="0" lang="en-US" sz="90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500" spc="-1" strike="noStrike">
                <a:solidFill>
                  <a:srgbClr val="ea157a"/>
                </a:solidFill>
                <a:latin typeface="標楷體"/>
              </a:rPr>
              <a:t>九九乘法闖關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a157a"/>
                </a:solidFill>
                <a:latin typeface="標楷體"/>
              </a:rPr>
              <a:t>(</a:t>
            </a:r>
            <a:r>
              <a:rPr b="0" lang="zh-TW" sz="5500" spc="-1" strike="noStrike">
                <a:solidFill>
                  <a:srgbClr val="ea157a"/>
                </a:solidFill>
                <a:latin typeface="標楷體"/>
              </a:rPr>
              <a:t>共</a:t>
            </a:r>
            <a:r>
              <a:rPr b="0" lang="en-US" sz="5500" spc="-1" strike="noStrike">
                <a:solidFill>
                  <a:srgbClr val="ea157a"/>
                </a:solidFill>
                <a:latin typeface="標楷體"/>
              </a:rPr>
              <a:t>8</a:t>
            </a:r>
            <a:r>
              <a:rPr b="0" lang="zh-TW" sz="5500" spc="-1" strike="noStrike">
                <a:solidFill>
                  <a:srgbClr val="ea157a"/>
                </a:solidFill>
                <a:latin typeface="標楷體"/>
              </a:rPr>
              <a:t>關</a:t>
            </a:r>
            <a:r>
              <a:rPr b="0" lang="en-US" sz="5500" spc="-1" strike="noStrike">
                <a:solidFill>
                  <a:srgbClr val="ea157a"/>
                </a:solidFill>
                <a:latin typeface="標楷體"/>
              </a:rPr>
              <a:t>)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22860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0" y="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一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380880" y="9144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2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838080" y="41911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7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5867280" y="533520"/>
            <a:ext cx="26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276720" y="1295280"/>
            <a:ext cx="26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6019920" y="4038480"/>
            <a:ext cx="26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3276720" y="3124080"/>
            <a:ext cx="24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304920" y="2666880"/>
            <a:ext cx="26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3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3" name="Text Box 14"/>
          <p:cNvSpPr/>
          <p:nvPr/>
        </p:nvSpPr>
        <p:spPr>
          <a:xfrm>
            <a:off x="6095880" y="2057400"/>
            <a:ext cx="24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3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4" name="AutoShape 15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evt="end">
                                        <p:tn val="390"/>
                                      </p:cond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evt="end">
                                        <p:tn val="396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evt="end">
                                        <p:tn val="402"/>
                                      </p:cond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evt="end">
                                        <p:tn val="408"/>
                                      </p:cond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4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4"/>
                                      </p:cond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500"/>
                            </p:stCondLst>
                            <p:childTnLst>
                              <p:par>
                                <p:cTn id="42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evt="end">
                                        <p:tn val="420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500"/>
                            </p:stCondLst>
                            <p:childTnLst>
                              <p:par>
                                <p:cTn id="42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500"/>
                            </p:stCondLst>
                            <p:childTnLst>
                              <p:par>
                                <p:cTn id="43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3"/>
          <p:cNvSpPr/>
          <p:nvPr/>
        </p:nvSpPr>
        <p:spPr>
          <a:xfrm>
            <a:off x="380880" y="91440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685800" y="3657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8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5562720" y="4572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276720" y="12952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5562720" y="35812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3048120" y="27432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152280" y="23623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2  × 4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791320" y="20574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3  × 2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二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4" name="AutoShape 12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evt="end">
                                        <p:tn val="450"/>
                                      </p:cond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500"/>
                            </p:stCondLst>
                            <p:childTnLst>
                              <p:par>
                                <p:cTn id="45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evt="end">
                                        <p:tn val="456"/>
                                      </p:cond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6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2" dur="1" fill="hold">
                                    <p:stCondLst>
                                      <p:cond evt="end">
                                        <p:tn val="468"/>
                                      </p:cond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500"/>
                            </p:stCondLst>
                            <p:childTnLst>
                              <p:par>
                                <p:cTn id="474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evt="end">
                                        <p:tn val="474"/>
                                      </p:cond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8500"/>
                            </p:stCondLst>
                            <p:childTnLst>
                              <p:par>
                                <p:cTn id="480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4" dur="1" fill="hold">
                                    <p:stCondLst>
                                      <p:cond evt="end">
                                        <p:tn val="480"/>
                                      </p:cond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6500"/>
                            </p:stCondLst>
                            <p:childTnLst>
                              <p:par>
                                <p:cTn id="486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evt="end">
                                        <p:tn val="486"/>
                                      </p:cond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4500"/>
                            </p:stCondLst>
                            <p:childTnLst>
                              <p:par>
                                <p:cTn id="492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evt="end">
                                        <p:tn val="492"/>
                                      </p:cond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62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457200" y="1523880"/>
            <a:ext cx="2362320" cy="155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4  × 2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457200" y="3733920"/>
            <a:ext cx="2362320" cy="155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4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4572000" y="2286000"/>
            <a:ext cx="2438280" cy="82512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4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4572000" y="4572000"/>
            <a:ext cx="2438280" cy="82512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4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457200" y="2666880"/>
            <a:ext cx="2362320" cy="155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5  × 3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457200" y="4800600"/>
            <a:ext cx="2362320" cy="155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5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4495680" y="1143000"/>
            <a:ext cx="2514600" cy="82512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5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2" name="Text Box 9"/>
          <p:cNvSpPr/>
          <p:nvPr/>
        </p:nvSpPr>
        <p:spPr>
          <a:xfrm>
            <a:off x="4572000" y="3429000"/>
            <a:ext cx="2438280" cy="825120"/>
          </a:xfrm>
          <a:prstGeom prst="rect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5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三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8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0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546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552" nodeType="afterEffect" fill="hold" presetClass="entr" presetID="23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27"/>
          <p:cNvSpPr/>
          <p:nvPr/>
        </p:nvSpPr>
        <p:spPr>
          <a:xfrm>
            <a:off x="0" y="549360"/>
            <a:ext cx="946800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8fee8"/>
                </a:solidFill>
                <a:latin typeface="標楷體"/>
              </a:rPr>
              <a:t>目錄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00"/>
                </a:solidFill>
                <a:latin typeface="標楷體"/>
              </a:rPr>
              <a:t>大家一起跟著唸 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2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到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9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的九九乘法</a:t>
            </a:r>
            <a:endParaRPr b="0" lang="en-US" sz="33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(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版本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1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：共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9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個投影片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)</a:t>
            </a:r>
            <a:endParaRPr b="0" lang="en-US" sz="33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(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版本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1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：共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3</a:t>
            </a:r>
            <a:r>
              <a:rPr b="0" lang="zh-TW" sz="3300" spc="-1" strike="noStrike">
                <a:solidFill>
                  <a:srgbClr val="ffff00"/>
                </a:solidFill>
                <a:latin typeface="標楷體"/>
              </a:rPr>
              <a:t>個投影片</a:t>
            </a:r>
            <a:r>
              <a:rPr b="0" lang="en-US" sz="3300" spc="-1" strike="noStrike">
                <a:solidFill>
                  <a:srgbClr val="ffff00"/>
                </a:solidFill>
                <a:latin typeface="標楷體"/>
              </a:rPr>
              <a:t>)</a:t>
            </a:r>
            <a:endParaRPr b="0" lang="en-US" sz="33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ea157a"/>
                </a:solidFill>
                <a:latin typeface="標楷體"/>
              </a:rPr>
              <a:t>看誰最快 </a:t>
            </a:r>
            <a:r>
              <a:rPr b="0" lang="zh-TW" sz="3600" spc="-1" strike="noStrike">
                <a:solidFill>
                  <a:srgbClr val="ea157a"/>
                </a:solidFill>
                <a:latin typeface="標楷體"/>
              </a:rPr>
              <a:t>九九乘法闖關</a:t>
            </a:r>
            <a:r>
              <a:rPr b="0" lang="en-US" sz="3600" spc="-1" strike="noStrike">
                <a:solidFill>
                  <a:srgbClr val="ea157a"/>
                </a:solidFill>
                <a:latin typeface="標楷體"/>
              </a:rPr>
              <a:t>(</a:t>
            </a:r>
            <a:r>
              <a:rPr b="0" lang="zh-TW" sz="3600" spc="-1" strike="noStrike">
                <a:solidFill>
                  <a:srgbClr val="ea157a"/>
                </a:solidFill>
                <a:latin typeface="標楷體"/>
              </a:rPr>
              <a:t>共</a:t>
            </a:r>
            <a:r>
              <a:rPr b="0" lang="en-US" sz="3600" spc="-1" strike="noStrike">
                <a:solidFill>
                  <a:srgbClr val="ea157a"/>
                </a:solidFill>
                <a:latin typeface="標楷體"/>
              </a:rPr>
              <a:t>8</a:t>
            </a:r>
            <a:r>
              <a:rPr b="0" lang="zh-TW" sz="3600" spc="-1" strike="noStrike">
                <a:solidFill>
                  <a:srgbClr val="ea157a"/>
                </a:solidFill>
                <a:latin typeface="標楷體"/>
              </a:rPr>
              <a:t>關</a:t>
            </a:r>
            <a:r>
              <a:rPr b="0" lang="en-US" sz="3600" spc="-1" strike="noStrike">
                <a:solidFill>
                  <a:srgbClr val="ea157a"/>
                </a:solidFill>
                <a:latin typeface="標楷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838080" y="137160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5  × 2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1143000" y="380988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5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4343400" y="28195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5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5181480" y="30492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5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457200" y="2666880"/>
            <a:ext cx="30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4  × 3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219320" y="48006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4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4572000" y="14479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4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4724280" y="4419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4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四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8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2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4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0" y="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五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80880" y="9144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2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838080" y="41911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7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5867280" y="533520"/>
            <a:ext cx="26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3276720" y="1295280"/>
            <a:ext cx="26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019920" y="4038480"/>
            <a:ext cx="26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3276720" y="3124080"/>
            <a:ext cx="24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304920" y="2666880"/>
            <a:ext cx="26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3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6095880" y="2057400"/>
            <a:ext cx="24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3 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7" dur="1" fill="hold">
                                    <p:stCondLst>
                                      <p:cond evt="end">
                                        <p:tn val="613"/>
                                      </p:cond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500"/>
                            </p:stCondLst>
                            <p:childTnLst>
                              <p:par>
                                <p:cTn id="61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3" dur="1" fill="hold">
                                    <p:stCondLst>
                                      <p:cond evt="end">
                                        <p:tn val="619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9" dur="1" fill="hold">
                                    <p:stCondLst>
                                      <p:cond evt="end">
                                        <p:tn val="625"/>
                                      </p:cond>
                                    </p:stCondLst>
                                  </p:cTn>
                                  <p:tgtEl>
                                    <p:spTgt spid="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63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evt="end">
                                        <p:tn val="631"/>
                                      </p:cond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500"/>
                            </p:stCondLst>
                            <p:childTnLst>
                              <p:par>
                                <p:cTn id="637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1" dur="1" fill="hold">
                                    <p:stCondLst>
                                      <p:cond evt="end">
                                        <p:tn val="637"/>
                                      </p:cond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evt="end">
                                        <p:tn val="643"/>
                                      </p:cond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46500"/>
                            </p:stCondLst>
                            <p:childTnLst>
                              <p:par>
                                <p:cTn id="64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3" dur="1" fill="hold">
                                    <p:stCondLst>
                                      <p:cond evt="end">
                                        <p:tn val="649"/>
                                      </p:cond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4500"/>
                            </p:stCondLst>
                            <p:childTnLst>
                              <p:par>
                                <p:cTn id="65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9" dur="1" fill="hold">
                                    <p:stCondLst>
                                      <p:cond evt="end">
                                        <p:tn val="655"/>
                                      </p:cond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2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2"/>
          <p:cNvSpPr/>
          <p:nvPr/>
        </p:nvSpPr>
        <p:spPr>
          <a:xfrm>
            <a:off x="380880" y="91440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6" name="Text Box 13"/>
          <p:cNvSpPr/>
          <p:nvPr/>
        </p:nvSpPr>
        <p:spPr>
          <a:xfrm>
            <a:off x="685800" y="3657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8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7" name="Text Box 14"/>
          <p:cNvSpPr/>
          <p:nvPr/>
        </p:nvSpPr>
        <p:spPr>
          <a:xfrm>
            <a:off x="5562720" y="4572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8" name="Text Box 15"/>
          <p:cNvSpPr/>
          <p:nvPr/>
        </p:nvSpPr>
        <p:spPr>
          <a:xfrm>
            <a:off x="3276720" y="12952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09" name="Text Box 16"/>
          <p:cNvSpPr/>
          <p:nvPr/>
        </p:nvSpPr>
        <p:spPr>
          <a:xfrm>
            <a:off x="5562720" y="35812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3048120" y="27432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1" name="Text Box 18"/>
          <p:cNvSpPr/>
          <p:nvPr/>
        </p:nvSpPr>
        <p:spPr>
          <a:xfrm>
            <a:off x="152280" y="23623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6  × 4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2" name="Text Box 19"/>
          <p:cNvSpPr/>
          <p:nvPr/>
        </p:nvSpPr>
        <p:spPr>
          <a:xfrm>
            <a:off x="5791320" y="20574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7  × 2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3" name="Text Box 20"/>
          <p:cNvSpPr/>
          <p:nvPr/>
        </p:nvSpPr>
        <p:spPr>
          <a:xfrm>
            <a:off x="0" y="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3300"/>
                </a:solidFill>
                <a:latin typeface="標楷體"/>
              </a:rPr>
              <a:t>第六關</a:t>
            </a:r>
            <a:endParaRPr b="0" lang="en-US" sz="66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4" name="AutoShape 2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evt="end">
                                        <p:tn val="673"/>
                                      </p:cond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6500"/>
                            </p:stCondLst>
                            <p:childTnLst>
                              <p:par>
                                <p:cTn id="67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evt="end">
                                        <p:tn val="679"/>
                                      </p:cond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9" dur="1" fill="hold">
                                    <p:stCondLst>
                                      <p:cond evt="end">
                                        <p:tn val="685"/>
                                      </p:cond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691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5" dur="1" fill="hold">
                                    <p:stCondLst>
                                      <p:cond evt="end">
                                        <p:tn val="691"/>
                                      </p:cond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0500"/>
                            </p:stCondLst>
                            <p:childTnLst>
                              <p:par>
                                <p:cTn id="697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evt="end">
                                        <p:tn val="697"/>
                                      </p:cond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8500"/>
                            </p:stCondLst>
                            <p:childTnLst>
                              <p:par>
                                <p:cTn id="70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evt="end">
                                        <p:tn val="703"/>
                                      </p:cond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6500"/>
                            </p:stCondLst>
                            <p:childTnLst>
                              <p:par>
                                <p:cTn id="709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3" dur="1" fill="hold">
                                    <p:stCondLst>
                                      <p:cond evt="end">
                                        <p:tn val="709"/>
                                      </p:cond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4500"/>
                            </p:stCondLst>
                            <p:childTnLst>
                              <p:par>
                                <p:cTn id="715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9" dur="1" fill="hold">
                                    <p:stCondLst>
                                      <p:cond evt="end">
                                        <p:tn val="715"/>
                                      </p:cond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62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457200" y="1523880"/>
            <a:ext cx="28954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8  × 2 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57200" y="3733920"/>
            <a:ext cx="289548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8  × 4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4572000" y="2286000"/>
            <a:ext cx="2989440" cy="1008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8  × 7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4572000" y="4572000"/>
            <a:ext cx="2989440" cy="1008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8  × 9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457200" y="2666880"/>
            <a:ext cx="2895480" cy="1922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9  × 3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457200" y="4800600"/>
            <a:ext cx="2895480" cy="1922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9  × 5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495680" y="1143000"/>
            <a:ext cx="3083040" cy="1008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9  × 6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4572000" y="3429000"/>
            <a:ext cx="2989440" cy="1008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標楷體"/>
              </a:rPr>
              <a:t>9  × 8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七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9" name="projctor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500"/>
                            </p:stCondLst>
                            <p:childTnLst>
                              <p:par>
                                <p:cTn id="743" nodeType="after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9" nodeType="after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5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1" nodeType="afterEffect" fill="hold" presetClass="entr" presetID="2" presetSubtype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4500"/>
                            </p:stCondLst>
                            <p:childTnLst>
                              <p:par>
                                <p:cTn id="767" nodeType="afterEffect" fill="hold" presetClass="entr" presetID="2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9000"/>
                            </p:stCondLst>
                            <p:childTnLst>
                              <p:par>
                                <p:cTn id="773" nodeType="afterEffect" fill="hold" presetClass="entr" presetID="2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3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838080" y="137160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9  × 2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1143000" y="380988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9  × 4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4343400" y="28195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9  × 7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5181480" y="304920"/>
            <a:ext cx="32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9  × 9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457200" y="2666880"/>
            <a:ext cx="30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8  × 3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1219320" y="48006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8  × 5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4572000" y="14479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8  × 6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4724280" y="4419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標楷體"/>
              </a:rPr>
              <a:t>8  × 8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0" y="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標楷體"/>
              </a:rPr>
              <a:t>第八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534" name="AutoShape 11">
            <a:hlinkClick r:id="" action="ppaction://hlinkshowjump?jump=nextslide"/>
          </p:cNvPr>
          <p:cNvSpPr/>
          <p:nvPr/>
        </p:nvSpPr>
        <p:spPr>
          <a:xfrm>
            <a:off x="5486400" y="5638320"/>
            <a:ext cx="3429000" cy="942840"/>
          </a:xfrm>
          <a:custGeom>
            <a:avLst/>
            <a:gdLst>
              <a:gd name="textAreaLeft" fmla="*/ 857160 w 3429000"/>
              <a:gd name="textAreaRight" fmla="*/ 2571840 w 3429000"/>
              <a:gd name="textAreaTop" fmla="*/ 0 h 942840"/>
              <a:gd name="textAreaBottom" fmla="*/ 825120 h 942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過關</a:t>
            </a:r>
            <a:endParaRPr b="0" lang="en-US" sz="48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4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9000"/>
                            </p:stCondLst>
                            <p:childTnLst>
                              <p:par>
                                <p:cTn id="82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3500"/>
                            </p:stCondLst>
                            <p:childTnLst>
                              <p:par>
                                <p:cTn id="826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832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2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684360" y="126828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3300"/>
                </a:solidFill>
                <a:latin typeface="標楷體"/>
              </a:rPr>
              <a:t>恭喜你全部做完一遍了，功夫又加升一級了喔！</a:t>
            </a:r>
            <a:endParaRPr b="0" lang="en-US" sz="6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027"/>
          <p:cNvSpPr/>
          <p:nvPr/>
        </p:nvSpPr>
        <p:spPr>
          <a:xfrm>
            <a:off x="0" y="836640"/>
            <a:ext cx="94680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0" spc="-1" strike="noStrike">
                <a:solidFill>
                  <a:srgbClr val="ffff00"/>
                </a:solidFill>
                <a:latin typeface="標楷體"/>
              </a:rPr>
              <a:t>大家一起跟著唸！</a:t>
            </a:r>
            <a:endParaRPr b="0" lang="en-US" sz="90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2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到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9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的九九乘法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(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版本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1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：共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9</a:t>
            </a:r>
            <a:r>
              <a:rPr b="0" lang="zh-TW" sz="5500" spc="-1" strike="noStrike">
                <a:solidFill>
                  <a:srgbClr val="92d050"/>
                </a:solidFill>
                <a:latin typeface="標楷體"/>
              </a:rPr>
              <a:t>個投影片</a:t>
            </a:r>
            <a:r>
              <a:rPr b="0" lang="en-US" sz="5500" spc="-1" strike="noStrike">
                <a:solidFill>
                  <a:srgbClr val="92d050"/>
                </a:solidFill>
                <a:latin typeface="標楷體"/>
              </a:rPr>
              <a:t>)</a:t>
            </a:r>
            <a:endParaRPr b="0" lang="en-US" sz="55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457200" y="44136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457200" y="1523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2666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57200" y="37339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457200" y="1523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457200" y="2666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457200" y="37339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7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457200" y="1523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457200" y="37339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4572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4572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4572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457200" y="1523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457200" y="266688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457200" y="3733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457200" y="380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1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4572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2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457200" y="26668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3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457200" y="37339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4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28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457200" y="4800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5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4572000" y="380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6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2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457200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7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49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4572000" y="2666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8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56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4572000" y="3733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7  × 9 </a:t>
            </a:r>
            <a:r>
              <a:rPr b="0" lang="zh-TW" sz="4000" spc="-1" strike="noStrike">
                <a:solidFill>
                  <a:srgbClr val="ffffff"/>
                </a:solidFill>
                <a:latin typeface="標楷體"/>
              </a:rPr>
              <a:t>＝ </a:t>
            </a:r>
            <a:r>
              <a:rPr b="0" lang="en-US" sz="4000" spc="-1" strike="noStrike">
                <a:solidFill>
                  <a:srgbClr val="ffffff"/>
                </a:solidFill>
                <a:latin typeface="標楷體"/>
              </a:rPr>
              <a:t>63</a:t>
            </a:r>
            <a:endParaRPr b="0" lang="en-US" sz="4000" spc="-1" strike="noStrike">
              <a:solidFill>
                <a:srgbClr val="ffffff"/>
              </a:solidFill>
              <a:latin typeface="標楷體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1:46:19Z</dcterms:created>
  <dc:creator>wses</dc:creator>
  <dc:description/>
  <dc:language>en-US</dc:language>
  <cp:lastModifiedBy>辛淑菁</cp:lastModifiedBy>
  <dcterms:modified xsi:type="dcterms:W3CDTF">2012-04-30T15:13:40Z</dcterms:modified>
  <cp:revision>41</cp:revision>
  <dc:subject/>
  <dc:title>PowerPoint 簡報</dc:title>
</cp:coreProperties>
</file>