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projctor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2A4-255B-43FB-9127-169A693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FF3-942D-4851-A4F2-FA50BFA5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CE5-6EE7-431B-A0A7-3196ABEC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A1F-E88B-4C54-B393-78DDCEC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5F8-EAC2-4E81-BE34-4C68818B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F02-B25C-49FA-B733-2064344D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E96D-6F2E-4A4A-B2AA-8901D35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0854-1595-4E06-BD4B-0CA1483C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10A-D0D4-4122-8A2B-33713D0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A70A-4E6C-4ACA-9E68-142A5DC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6074-AA0F-429F-A54B-AC76ED4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95E-B175-44E0-83A5-5D67B5E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22DA-5C67-4A87-BB0F-F1FABFF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DE01-6F59-47F1-8653-CA8DEBB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66D-A499-4848-872F-74D6AB88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7119-E726-4E80-A6F1-26119FF2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2B0E-857D-4BD1-B14A-D4152575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FA6B-663B-4183-9E8A-DCB8C15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1C53-924E-4FDC-9059-0F39399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2777-D9F8-49EC-ACC2-54270232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1AD3-F35E-4D87-A7FC-30FFDA2E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7563-ED8E-4EB6-B498-DFC0E671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8D4-4DD2-4DA9-9DB2-FB16C0A6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BFE5-EBEA-4EDE-8D8E-CF22978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764A-F519-4FF1-8BB4-B1F8D5F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15F5-57C9-4B30-892A-6D358A8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7E6E-A94D-4DBE-86C1-740990A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BCAC-0ED8-4B55-810D-1186F02A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6399-423F-4C4D-AA1B-41073552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ADB1-C250-41AF-9AE1-5B039495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EB53-49B6-48AA-AE91-5C92DBC5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6E1F-EB1C-4E26-A432-A8E2344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2697-3D1B-471E-9ADE-332ED4CB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4C1-8197-4090-8FE0-3CA3D573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39A5-662E-4800-9035-850935A4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7491-B75F-4F33-AFA0-39B9D63B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064F6-1810-4EDA-AED0-74AF0C14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185F-7AC7-4FC4-83C3-BAE7E11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3F54-1FEA-44A3-BB2A-1AD7CEC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AD62-8F5C-4E44-A4B1-959A41A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B863-D79F-460E-AFE7-1564EA3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514B-1075-4468-8061-8EA29880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3A0E-BA15-4D9B-A8E2-D5BB778D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417A-8B99-4B32-AED8-A79EE2F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537-8EF3-4509-9AF2-F72C639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E6BE-867E-4B2D-AF6C-46D3A5AE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D89C-F599-4D1B-A103-41644CE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4C07-33BF-4B41-8879-9B5F827C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A68F-0A3A-4C88-B224-05BF8633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D4DA-C723-47B0-9FEC-EE3299C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22B3-B275-4D45-A1B4-78BF83C5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3C88-1286-47DE-9E9B-1C1B248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FF70-E8E4-4229-BC63-51837DD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E958-F5F2-413B-A1C2-817BA79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FD5D-B4AD-43F4-8C04-C3FA5265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A20-AA02-4C28-BA24-2614E445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2173-37CD-45C4-BDCE-5A9CB737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41F7-338A-4C63-8273-169212BA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29BF-349D-4C84-9E63-93F5361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58ED-0800-4406-B4CC-5C5DFD8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4A03-1FF5-4E10-9AA5-F1DACA3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B1CA-D947-459E-BC77-42E303F9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8E12-D8F4-428F-8D93-4122E6A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8555-4974-49D0-8398-C1FD66E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E247-8B76-4E80-8E3D-E7D58F4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09C2-C07F-4B7F-A3BA-EA31B308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44B-9CF3-4970-BEE9-0DB3183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37EF-69CF-4284-A9FF-0F1ECF5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86ADE-51D8-4398-B7FD-A9D6F8B0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0EAD-7C89-4BF2-AD8B-48625C98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A90CF-5BD5-42E2-9223-1AA4DF39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E163F-C2DD-4D6F-AAF0-A4146D86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71D1-C603-4407-BF8E-B9E3E74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82C7-7F23-4E2A-B99C-1E75A0E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181DF-E198-4F70-B387-C6DB4F8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EA23-3EA2-4EBD-8F06-C91560F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6DF3-B6B8-4845-A41A-3B353C4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6F9-9C14-4E77-970E-9CD1473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E68E-38F2-4691-B3C2-76675B3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F127-680B-4391-ACAE-D0511E3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D4FF7-B7F8-485C-B815-13BFE26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A6BD-7BC6-4F4D-898A-4C6DC7BE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204A-46BA-48BF-BCC1-AE7AB30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4EF-A064-441F-98B5-7896112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F43-BF1D-49FF-9649-24CCBB7A7C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" name="矩形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" name="矩形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5" name="矩形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8" name="矩形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7872-B164-4A79-B01F-3CEBF227940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9" name="手繪多邊形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0" name="手繪多邊形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1" name="手繪多邊形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2" name="手繪多邊形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3" name="手繪多邊形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4" name="手繪多邊形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5" name="手繪多邊形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6" name="手繪多邊形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7" name="手繪多邊形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8" name="手繪多邊形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9" name="手繪多邊形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0" name="手繪多邊形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1" name="手繪多邊形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2" name="手繪多邊形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3" name="手繪多邊形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5" name="矩形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6" name="矩形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7" name="矩形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8" name="矩形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9" name="矩形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50F1-BF92-410C-BC12-998DF1F89D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8D60-0C33-43B9-BF77-A95BDDE0E8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7" name="矩形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8" name="矩形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9" name="矩形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0" name="矩形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1" name="矩形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286-E895-4874-9498-769E7E659DF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6BF-875A-41DB-A0BF-2263616EBF8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6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0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1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2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3" name="矩形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4" name="直線接點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grpSp>
        <p:nvGrpSpPr>
          <p:cNvPr id="315" name="群組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直線接點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17" name="直線接點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18" name="直線接點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grpSp>
        <p:nvGrpSpPr>
          <p:cNvPr id="319" name="群組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直線接點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1" name="直線接點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2" name="直線接點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grpSp>
        <p:nvGrpSpPr>
          <p:cNvPr id="323" name="群組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直線接點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5" name="直線接點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6" name="直線接點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4BF3-33F1-41D8-A99B-EF03A314BB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027"/>
          <p:cNvSpPr/>
          <p:nvPr/>
        </p:nvSpPr>
        <p:spPr>
          <a:xfrm>
            <a:off x="1619280" y="1413000"/>
            <a:ext cx="604692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ea157a"/>
                </a:solidFill>
                <a:latin typeface="標楷體"/>
              </a:rPr>
              <a:t>九九乘法</a:t>
            </a:r>
            <a:endParaRPr b="0" lang="en-US" sz="96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ea157a"/>
                </a:solidFill>
                <a:latin typeface="標楷體"/>
              </a:rPr>
              <a:t>我最棒！</a:t>
            </a:r>
            <a:r>
              <a:rPr b="0" lang="zh-TW" sz="1300" spc="-1" strike="noStrike">
                <a:solidFill>
                  <a:srgbClr val="ea157a"/>
                </a:solidFill>
                <a:latin typeface="標楷體"/>
              </a:rPr>
              <a:t>辛淑菁</a:t>
            </a:r>
            <a:endParaRPr b="0" lang="en-US" sz="13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45720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457200" y="37339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00"/>
                </a:solidFill>
                <a:latin typeface="標楷體"/>
              </a:rPr>
              <a:t>大家一起跟著唸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到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的九九乘法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版本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：共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3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個投影片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3419640" y="272880"/>
            <a:ext cx="2666880" cy="83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1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2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3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4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5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6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7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8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9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442200" y="228600"/>
            <a:ext cx="2666880" cy="88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1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2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3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4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5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6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7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8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9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68360" y="417600"/>
            <a:ext cx="266688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1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2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3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4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5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6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7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8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9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3273480" y="41760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1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2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3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4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5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6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7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8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9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008760" y="41760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1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2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3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4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5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3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6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7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4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8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4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9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5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20760" y="404640"/>
            <a:ext cx="2666880" cy="93070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1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2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3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4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5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6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7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8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3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9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3057480" y="40464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1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2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3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4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3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5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4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6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4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7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5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8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6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9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7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5937120" y="417600"/>
            <a:ext cx="266724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1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2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3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2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4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5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4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6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5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7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6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8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7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9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8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49120" y="404640"/>
            <a:ext cx="266724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1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2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1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3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2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4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2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5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3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6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4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7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4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8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5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9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6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ea157a"/>
                </a:solidFill>
                <a:latin typeface="標楷體"/>
              </a:rPr>
              <a:t>看誰最快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九九乘法闖關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共</a:t>
            </a: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8</a:t>
            </a: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關</a:t>
            </a: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一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380880" y="914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838080" y="4191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7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5867280" y="53352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276720" y="129528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19920" y="40384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3276720" y="3124080"/>
            <a:ext cx="24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304920" y="26668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3" name="Text Box 14"/>
          <p:cNvSpPr/>
          <p:nvPr/>
        </p:nvSpPr>
        <p:spPr>
          <a:xfrm>
            <a:off x="6095880" y="2057400"/>
            <a:ext cx="24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4" name="AutoShape 15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2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4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380880" y="9144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685800" y="3657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8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5562720" y="457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76720" y="1295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5562720" y="3581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3048120" y="27432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52280" y="2362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791320" y="20574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2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二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4" name="AutoShape 12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0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2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5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4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65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6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450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2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457200" y="152388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2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457200" y="373392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572000" y="2286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72000" y="4572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457200" y="266688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57200" y="480060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4495680" y="1143000"/>
            <a:ext cx="251460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4572000" y="3429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三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0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6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552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27"/>
          <p:cNvSpPr/>
          <p:nvPr/>
        </p:nvSpPr>
        <p:spPr>
          <a:xfrm>
            <a:off x="0" y="549360"/>
            <a:ext cx="946800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8fee8"/>
                </a:solidFill>
                <a:latin typeface="標楷體"/>
              </a:rPr>
              <a:t>目錄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標楷體"/>
              </a:rPr>
              <a:t>大家一起跟著唸 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2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到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9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的九九乘法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(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版本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1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：共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9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個投影片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(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版本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1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：共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3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個投影片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ea157a"/>
                </a:solidFill>
                <a:latin typeface="標楷體"/>
              </a:rPr>
              <a:t>看誰最快 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九九乘法闖關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(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共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8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關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838080" y="13716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1143000" y="380988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4343400" y="2819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5181480" y="30492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457200" y="2666880"/>
            <a:ext cx="30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219320" y="4800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4572000" y="1447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724280" y="441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四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2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五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0880" y="914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838080" y="4191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7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5867280" y="53352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76720" y="129528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019920" y="40384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3276720" y="3124080"/>
            <a:ext cx="24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304920" y="26668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6095880" y="2057400"/>
            <a:ext cx="24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3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3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500"/>
                            </p:stCondLst>
                            <p:childTnLst>
                              <p:par>
                                <p:cTn id="63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6500"/>
                            </p:stCondLst>
                            <p:childTnLst>
                              <p:par>
                                <p:cTn id="64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4500"/>
                            </p:stCondLst>
                            <p:childTnLst>
                              <p:par>
                                <p:cTn id="65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2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2"/>
          <p:cNvSpPr/>
          <p:nvPr/>
        </p:nvSpPr>
        <p:spPr>
          <a:xfrm>
            <a:off x="380880" y="9144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685800" y="3657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8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7" name="Text Box 14"/>
          <p:cNvSpPr/>
          <p:nvPr/>
        </p:nvSpPr>
        <p:spPr>
          <a:xfrm>
            <a:off x="5562720" y="457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3276720" y="1295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5562720" y="3581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3048120" y="27432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152280" y="2362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5791320" y="20574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2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0" y="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3300"/>
                </a:solidFill>
                <a:latin typeface="標楷體"/>
              </a:rPr>
              <a:t>第六關</a:t>
            </a:r>
            <a:endParaRPr b="0" lang="en-US" sz="66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4" name="AutoShape 2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3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500"/>
                            </p:stCondLst>
                            <p:childTnLst>
                              <p:par>
                                <p:cTn id="67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7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8500"/>
                            </p:stCondLst>
                            <p:childTnLst>
                              <p:par>
                                <p:cTn id="70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6500"/>
                            </p:stCondLst>
                            <p:childTnLst>
                              <p:par>
                                <p:cTn id="70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09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4500"/>
                            </p:stCondLst>
                            <p:childTnLst>
                              <p:par>
                                <p:cTn id="71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457200" y="1523880"/>
            <a:ext cx="2895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2 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57200" y="3733920"/>
            <a:ext cx="289548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4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4572000" y="2286000"/>
            <a:ext cx="2989440" cy="100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7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572000" y="4572000"/>
            <a:ext cx="2989440" cy="100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9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57200" y="2666880"/>
            <a:ext cx="289548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3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457200" y="4800600"/>
            <a:ext cx="2895480" cy="1922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5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495680" y="1143000"/>
            <a:ext cx="3083040" cy="1008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6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572000" y="3429000"/>
            <a:ext cx="2989440" cy="1008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8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七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9" name="projctor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500"/>
                            </p:stCondLst>
                            <p:childTnLst>
                              <p:par>
                                <p:cTn id="743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9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1" nodeType="afterEffect" fill="hold" presetClass="entr" presetID="2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767" nodeType="after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9000"/>
                            </p:stCondLst>
                            <p:childTnLst>
                              <p:par>
                                <p:cTn id="773" nodeType="after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838080" y="13716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1143000" y="380988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343400" y="2819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5181480" y="30492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57200" y="2666880"/>
            <a:ext cx="30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219320" y="4800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572000" y="1447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724280" y="441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八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350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2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684360" y="1268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00"/>
                </a:solidFill>
                <a:latin typeface="標楷體"/>
              </a:rPr>
              <a:t>恭喜你全部做完一遍了，功夫又加升一級了喔！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00"/>
                </a:solidFill>
                <a:latin typeface="標楷體"/>
              </a:rPr>
              <a:t>大家一起跟著唸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到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的九九乘法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版本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1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：共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個投影片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457200" y="4413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2666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57200" y="37339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457200" y="2666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57200" y="3733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4572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572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57200" y="3733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457200" y="380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572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57200" y="26668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457200" y="3733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1:46:19Z</dcterms:created>
  <dc:creator>wses</dc:creator>
  <dc:description/>
  <dc:language>en-US</dc:language>
  <cp:lastModifiedBy>辛淑菁</cp:lastModifiedBy>
  <dcterms:modified xsi:type="dcterms:W3CDTF">2012-04-30T15:13:40Z</dcterms:modified>
  <cp:revision>41</cp:revision>
  <dc:subject/>
  <dc:title>PowerPoint 簡報</dc:title>
</cp:coreProperties>
</file>