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A60-79A7-40EE-B539-E13ABD84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4AF-E092-4D59-9A1C-B66BFE2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AD3-962B-469B-B86D-40197CF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02A-37EA-4682-B6D9-E4859F5F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B57-1619-4852-BECA-D8440064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208-286B-4521-AACA-E1A8FF0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864-F0C7-4CD2-A0BB-2EA50E0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2A7-9072-48F8-8D3D-0194AFA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430-F5B4-43FB-B57C-C82FE33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013-78C0-4775-B6D6-79D81CF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2E1-EDD2-419D-9243-B0C5796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387-A1CD-46DD-B4A4-AB6FAE6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9F43-2507-461D-ABCE-B66070ED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286"/>
          <p:cNvSpPr/>
          <p:nvPr/>
        </p:nvSpPr>
        <p:spPr>
          <a:xfrm>
            <a:off x="2286000" y="533520"/>
            <a:ext cx="487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4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26668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438280" y="6858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3"/>
          <p:cNvSpPr/>
          <p:nvPr/>
        </p:nvSpPr>
        <p:spPr>
          <a:xfrm>
            <a:off x="1676520" y="609480"/>
            <a:ext cx="5790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9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加油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9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4500"/>
                            </p:stCondLst>
                            <p:childTnLst>
                              <p:par>
                                <p:cTn id="80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3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80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7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82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5000"/>
                            </p:stCondLst>
                            <p:childTnLst>
                              <p:par>
                                <p:cTn id="83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4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6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94"/>
          <p:cNvSpPr/>
          <p:nvPr/>
        </p:nvSpPr>
        <p:spPr>
          <a:xfrm>
            <a:off x="283356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94"/>
          <p:cNvSpPr/>
          <p:nvPr/>
        </p:nvSpPr>
        <p:spPr>
          <a:xfrm>
            <a:off x="2717640" y="685800"/>
            <a:ext cx="473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5530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5:11:36Z</dcterms:modified>
  <cp:revision>20</cp:revision>
  <dc:subject/>
  <dc:title>PowerPoint 簡報</dc:title>
</cp:coreProperties>
</file>