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50B-13B0-4762-82B6-6F044DB4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2B9-CDD9-484F-9045-6A8D774E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657-5BF9-4E1F-AD75-00F5B736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2DA-CC81-408B-AB56-97AB1515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6C1-169E-4B12-9E56-910C7007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59E-1CC0-4EE8-B0E6-18D9836A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565-1E8E-4EFD-86FA-6869A7C2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FF9-2A73-42F0-9F9E-D9B2B9B0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E7D-A586-40E1-8F1C-461C98E1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310-5DA5-49C0-B028-8559589B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355E-C8ED-49B6-BBA4-FF7F9080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6D2-CC4B-4C2F-A7EB-6BDAF0F2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07AB-26E0-4F5F-8DB9-3616D983F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3880" y="3808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6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752480" y="2590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743200" y="5335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標楷體"/>
                <a:ea typeface="標楷體"/>
              </a:rPr>
              <a:t>4</a:t>
            </a:r>
            <a:r>
              <a:rPr b="1" lang="zh-TW" sz="4800" spc="-1" strike="noStrike">
                <a:solidFill>
                  <a:srgbClr val="006600"/>
                </a:solidFill>
                <a:latin typeface="標楷體"/>
                <a:ea typeface="標楷體"/>
              </a:rPr>
              <a:t>的九九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52480" y="36576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800600" y="15238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876920" y="25909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828800" y="55627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676520" y="1600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75248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876920" y="358128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876920" y="45720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352680" y="1523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3352680" y="16002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3429000" y="26668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3429000" y="3657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3276720" y="4648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3352680" y="5562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6400800" y="4572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6400800" y="35812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6400800" y="2590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640080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900000" y="380880"/>
            <a:ext cx="755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有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9</a:t>
            </a: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題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038480" y="2895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6"/>
          <p:cNvSpPr/>
          <p:nvPr/>
        </p:nvSpPr>
        <p:spPr>
          <a:xfrm>
            <a:off x="7391520" y="1752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7"/>
          <p:cNvSpPr/>
          <p:nvPr/>
        </p:nvSpPr>
        <p:spPr>
          <a:xfrm>
            <a:off x="3657600" y="4114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8"/>
          <p:cNvSpPr/>
          <p:nvPr/>
        </p:nvSpPr>
        <p:spPr>
          <a:xfrm>
            <a:off x="0" y="15238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39"/>
          <p:cNvSpPr/>
          <p:nvPr/>
        </p:nvSpPr>
        <p:spPr>
          <a:xfrm>
            <a:off x="0" y="54864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0"/>
          <p:cNvSpPr/>
          <p:nvPr/>
        </p:nvSpPr>
        <p:spPr>
          <a:xfrm>
            <a:off x="4343400" y="1752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41"/>
          <p:cNvSpPr/>
          <p:nvPr/>
        </p:nvSpPr>
        <p:spPr>
          <a:xfrm>
            <a:off x="228600" y="373392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42"/>
          <p:cNvSpPr/>
          <p:nvPr/>
        </p:nvSpPr>
        <p:spPr>
          <a:xfrm>
            <a:off x="0" y="3657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3"/>
          <p:cNvSpPr/>
          <p:nvPr/>
        </p:nvSpPr>
        <p:spPr>
          <a:xfrm>
            <a:off x="4952880" y="5257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44"/>
          <p:cNvSpPr/>
          <p:nvPr/>
        </p:nvSpPr>
        <p:spPr>
          <a:xfrm>
            <a:off x="685800" y="2514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5"/>
          <p:cNvSpPr/>
          <p:nvPr/>
        </p:nvSpPr>
        <p:spPr>
          <a:xfrm>
            <a:off x="7086600" y="2895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46"/>
          <p:cNvSpPr/>
          <p:nvPr/>
        </p:nvSpPr>
        <p:spPr>
          <a:xfrm>
            <a:off x="8077320" y="5257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7"/>
          <p:cNvSpPr/>
          <p:nvPr/>
        </p:nvSpPr>
        <p:spPr>
          <a:xfrm>
            <a:off x="175248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8"/>
          <p:cNvSpPr/>
          <p:nvPr/>
        </p:nvSpPr>
        <p:spPr>
          <a:xfrm>
            <a:off x="304812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9"/>
          <p:cNvSpPr/>
          <p:nvPr/>
        </p:nvSpPr>
        <p:spPr>
          <a:xfrm>
            <a:off x="3733920" y="2514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0"/>
          <p:cNvSpPr/>
          <p:nvPr/>
        </p:nvSpPr>
        <p:spPr>
          <a:xfrm>
            <a:off x="6705720" y="4114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1"/>
          <p:cNvSpPr/>
          <p:nvPr/>
        </p:nvSpPr>
        <p:spPr>
          <a:xfrm>
            <a:off x="312408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52"/>
          <p:cNvSpPr/>
          <p:nvPr/>
        </p:nvSpPr>
        <p:spPr>
          <a:xfrm>
            <a:off x="312408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8" dur="1" fill="hold"/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826920" y="380880"/>
            <a:ext cx="5639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200400" y="5181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0481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-1371600" y="56386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419720" y="38862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0" y="47242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-228600" y="5715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0" y="530208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80880" y="50292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733920" y="57150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1828800" y="42670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248520" y="5181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69343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523880" y="603396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3048120" y="47242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5029200" y="42670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182880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3429000" y="51055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7467480" y="3809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ou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9500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7500"/>
                            </p:stCondLst>
                            <p:childTnLst>
                              <p:par>
                                <p:cTn id="76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6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41000"/>
                            </p:stCondLst>
                            <p:childTnLst>
                              <p:par>
                                <p:cTn id="77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00"/>
                            </p:stCondLst>
                            <p:childTnLst>
                              <p:par>
                                <p:cTn id="78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4500"/>
                            </p:stCondLst>
                            <p:childTnLst>
                              <p:par>
                                <p:cTn id="78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6350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8000"/>
                            </p:stCondLst>
                            <p:childTnLst>
                              <p:par>
                                <p:cTn id="79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770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81500"/>
                            </p:stCondLst>
                            <p:childTnLst>
                              <p:par>
                                <p:cTn id="80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0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95000"/>
                            </p:stCondLst>
                            <p:childTnLst>
                              <p:par>
                                <p:cTn id="81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40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8500"/>
                            </p:stCondLst>
                            <p:childTnLst>
                              <p:par>
                                <p:cTn id="82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175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8" dur="1" fill="hold"/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819520" y="611280"/>
            <a:ext cx="31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963880" y="75564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324240" y="692280"/>
            <a:ext cx="31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036960" y="692280"/>
            <a:ext cx="31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2670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892600" y="75564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2670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8769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843280" y="755640"/>
            <a:ext cx="33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2670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8769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5627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59280" y="61128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2670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8769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5627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485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987640" y="82872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2670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8769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5627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2485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9343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1:45:13Z</dcterms:created>
  <dc:creator>shin</dc:creator>
  <dc:description/>
  <dc:language>en-US</dc:language>
  <cp:lastModifiedBy>辛淑菁</cp:lastModifiedBy>
  <dcterms:modified xsi:type="dcterms:W3CDTF">2012-04-30T14:59:30Z</dcterms:modified>
  <cp:revision>26</cp:revision>
  <dc:subject/>
  <dc:title>PowerPoint 簡報</dc:title>
</cp:coreProperties>
</file>