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4C6-B17F-4966-9610-D711D6C2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C44-1B6E-4BB4-902A-8211E187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729-A4FE-43DE-A67F-278FC758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C0F-F59A-4B93-89AE-F38F1729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C2E-F298-4103-AF4D-FF291E6F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736-7931-41D6-A1ED-28592E09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BCE-4E3C-44AE-A4FB-5FA2197C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7E5-5854-4715-A419-91C44A82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956-58E9-4AF4-829D-DFAE4B02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343-0C62-4408-99D8-ABCA4B74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69E-C690-4519-B11D-86209BBF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BD5-5C93-4BB5-B60D-F171E2E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AF3D-2B60-4030-9607-6B3C9467A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3880" y="3808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743200" y="5335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標楷體"/>
                <a:ea typeface="標楷體"/>
              </a:rPr>
              <a:t>4</a:t>
            </a:r>
            <a:r>
              <a:rPr b="1" lang="zh-TW" sz="4800" spc="-1" strike="noStrike">
                <a:solidFill>
                  <a:srgbClr val="006600"/>
                </a:solidFill>
                <a:latin typeface="標楷體"/>
                <a:ea typeface="標楷體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352680" y="1523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3429000" y="26668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429000" y="3657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3276720" y="4648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6400800" y="2590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00000" y="380880"/>
            <a:ext cx="755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有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題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038480" y="2895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7391520" y="17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7"/>
          <p:cNvSpPr/>
          <p:nvPr/>
        </p:nvSpPr>
        <p:spPr>
          <a:xfrm>
            <a:off x="3657600" y="4114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8"/>
          <p:cNvSpPr/>
          <p:nvPr/>
        </p:nvSpPr>
        <p:spPr>
          <a:xfrm>
            <a:off x="0" y="15238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9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0"/>
          <p:cNvSpPr/>
          <p:nvPr/>
        </p:nvSpPr>
        <p:spPr>
          <a:xfrm>
            <a:off x="4343400" y="1752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1"/>
          <p:cNvSpPr/>
          <p:nvPr/>
        </p:nvSpPr>
        <p:spPr>
          <a:xfrm>
            <a:off x="228600" y="373392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2"/>
          <p:cNvSpPr/>
          <p:nvPr/>
        </p:nvSpPr>
        <p:spPr>
          <a:xfrm>
            <a:off x="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3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4"/>
          <p:cNvSpPr/>
          <p:nvPr/>
        </p:nvSpPr>
        <p:spPr>
          <a:xfrm>
            <a:off x="685800" y="2514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5"/>
          <p:cNvSpPr/>
          <p:nvPr/>
        </p:nvSpPr>
        <p:spPr>
          <a:xfrm>
            <a:off x="7086600" y="2895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6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8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9"/>
          <p:cNvSpPr/>
          <p:nvPr/>
        </p:nvSpPr>
        <p:spPr>
          <a:xfrm>
            <a:off x="3733920" y="2514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0"/>
          <p:cNvSpPr/>
          <p:nvPr/>
        </p:nvSpPr>
        <p:spPr>
          <a:xfrm>
            <a:off x="6705720" y="4114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1"/>
          <p:cNvSpPr/>
          <p:nvPr/>
        </p:nvSpPr>
        <p:spPr>
          <a:xfrm>
            <a:off x="31240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2"/>
          <p:cNvSpPr/>
          <p:nvPr/>
        </p:nvSpPr>
        <p:spPr>
          <a:xfrm>
            <a:off x="312408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8" dur="1" fill="hold"/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826920" y="380880"/>
            <a:ext cx="5639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0481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-13716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419720" y="38862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-22860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0" y="530208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80880" y="5029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733920" y="5715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828800" y="4267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69343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523880" y="60339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048120" y="4724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5029200" y="42670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182880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3429000" y="51055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7467480" y="3809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ou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950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7500"/>
                            </p:stCondLst>
                            <p:childTnLst>
                              <p:par>
                                <p:cTn id="76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6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1000"/>
                            </p:stCondLst>
                            <p:childTnLst>
                              <p:par>
                                <p:cTn id="77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0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4500"/>
                            </p:stCondLst>
                            <p:childTnLst>
                              <p:par>
                                <p:cTn id="78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635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000"/>
                            </p:stCondLst>
                            <p:childTnLst>
                              <p:par>
                                <p:cTn id="79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77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81500"/>
                            </p:stCondLst>
                            <p:childTnLst>
                              <p:par>
                                <p:cTn id="80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0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95000"/>
                            </p:stCondLst>
                            <p:childTnLst>
                              <p:par>
                                <p:cTn id="81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40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8500"/>
                            </p:stCondLst>
                            <p:childTnLst>
                              <p:par>
                                <p:cTn id="82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175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8" dur="1" fill="hold"/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819520" y="611280"/>
            <a:ext cx="31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963880" y="75564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324240" y="692280"/>
            <a:ext cx="31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36960" y="692280"/>
            <a:ext cx="31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892600" y="75564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843280" y="75564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5627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59280" y="61128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627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485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987640" y="82872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5627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2485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9343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4:59:30Z</dcterms:modified>
  <cp:revision>26</cp:revision>
  <dc:subject/>
  <dc:title>PowerPoint 簡報</dc:title>
</cp:coreProperties>
</file>